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01F3-CDB8-4A44-B0C9-962FEB7B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BD4F-D642-4D02-BEE4-D4D62340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E78C-19D5-481E-9F43-0B44F43E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EFF9-9764-400C-98F0-C5F26D97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3E74-FBE7-4136-9456-3AC0BCFD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7F36-DA75-4F25-80C8-2B6181D9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57B2-F1AE-43B9-9245-5A1F124C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EF35-347A-4917-A0C5-806259F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55AA-9D1C-4F37-9B1A-5CCFA935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28C1-AF35-49B0-8307-D5F04474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54FD-DAD8-4481-B6A4-30495E87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BA07-3084-4B33-9FFA-E9816FE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C18C-0408-473A-829A-1B0F637B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A306-FE9C-479E-A924-5B3621B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F872-00C6-48AC-8FFF-2A399930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6584-2726-40C5-B252-AF2105CD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44F5-F592-407A-B9B9-563FBEA5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8AF2-6EFF-416C-BE08-318B6B97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012C-9F67-45BF-A198-FB7E49A8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5782-DCAE-4B85-9B68-2A65398F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CF7A-BC31-4853-8FE8-C195709D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06E8-D665-423C-8E32-910D20AE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41A5-0571-4794-834D-A56D6ECB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4E06-F076-42A4-B7DB-2F0000DD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20B-9EB5-4C71-83DA-4A2138D2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261D-FB65-4199-AA52-DF42090F40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Apostrophe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cant read the teacher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can’t read the teacher’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can’t read the teachers’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cant read the teacher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an’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read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eacher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can’t read the teachers’s handwrit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’s getting the cake for Dads 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s getting the cake for Dad’s 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’s getting the cake for Dad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’s getting the cake for Dads 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s getting the cake for Dad’s 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ho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getting the cake for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ad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irthday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l of Charles students received A’s las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ll of Charles students received As las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l of Charles’ student’s received A’s las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ll of Charles students received A’s las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ll of Charles students received As las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ll of Charles’ student’s received A’s las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est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the correct revision i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ll of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harles’s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students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received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’s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last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semeste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re’s no way I can pay this month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s no way I can pay this month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re’s no way I can pay this month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re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no way I can pay th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month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res no way I can pay this month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re’s no way I can pay this month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n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dogs name is Oliver; he’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dog’s name is Oliver; he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y dog’s name is Oliver; he’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y dogs name is Oliver; he’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y dog’s name is Oliver; hes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M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og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name is Oliver;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he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a terrie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are apostrophe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ostroph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follow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show ownership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ayden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 dog, Lisa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 pur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show that a letter (or letters) have been left out of two words that have been joined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+ am = I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; that + is = that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, et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make letters and numbers plural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size 10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 are all g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form possessives of time nouns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is yea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 TV shows are worse than ev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t know whose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know who’s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don’t know whose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t know whose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know who’s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on’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know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whos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computer this i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any toddlers can’t pronounce V’s or S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any toddler’s can’t pronounce V’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any toddlers can’t pronounce Vs or S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Many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oddler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an’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pronounc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V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any toddler’s can’t pronounce V’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any toddlers can’t pronounce Vs or S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rrors 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ren’t the boys Halloween costum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rent the boys Halloween costum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ren’t the boys’ Halloween costume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sentence that has n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rrors 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ren’t the boys Halloween costume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nt the boys Halloween costume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ren’t the boys’ Halloween costume’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ghtening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the correct revision i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ren’t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the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oys’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Halloween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ostumes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frightening?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’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a singular noun to show ownership, even if the noun already ends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ill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 house, Chr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 c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a noun is plural and ends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just add an apostrophe to show ownership. If it is plural but does not end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’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girl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’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ho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more than one girl)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children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 clot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use an apostrophe to form the plural of a no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ORR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The play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 hudd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RRECT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yers hudd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use an apostrophe with a possessive pronoun (lik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r, yours, ou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ORRECT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like your yard better than ou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 like your yard better than ou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writing a contraction, put an apostrophe where the letters have been left out, not between two wor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ORR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does’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doesn’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t know whether he wears size 10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ze 12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know whether he wears size 10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ze 12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 don’t know whether he wears size 10’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r size 12’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 dont know whether he wears size 10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ze 12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 don’t know whether he wears size 10s 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ze 12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I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on’t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know whether he wears siz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10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or siz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12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Johns car was much faster than their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hn’s car was much faster than their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John’s car was much faster than their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sentence that has no error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the use of apostrophes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Johns car was much faster than their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John’s car was much faster than their’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John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car was much faster tha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their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6:22:11Z</dcterms:modified>
  <cp:revision>175</cp:revision>
  <dc:subject/>
  <dc:title>Sentence Fragments</dc:title>
</cp:coreProperties>
</file>